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6000" y="396432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87304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672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18400" y="160020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9160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672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818400" y="3964320"/>
            <a:ext cx="185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73040" y="3964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3040" y="1600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16000" y="3964320"/>
            <a:ext cx="577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7656"/>
                </a:solidFill>
                <a:latin typeface="Times New Roman"/>
              </a:rPr>
              <a:t>Aspekty digitalizácie múzejných zbie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-252360" y="285912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dmet digitaliz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4" action="ppaction://hlinksldjump"/>
          </p:cNvPr>
          <p:cNvSpPr/>
          <p:nvPr/>
        </p:nvSpPr>
        <p:spPr>
          <a:xfrm>
            <a:off x="-252360" y="3790800"/>
            <a:ext cx="2400120" cy="38448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tódy digitaliz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252360" y="425772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bu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5" action="ppaction://hlinksldjump"/>
          </p:cNvPr>
          <p:cNvSpPr/>
          <p:nvPr/>
        </p:nvSpPr>
        <p:spPr>
          <a:xfrm>
            <a:off x="-252360" y="4724280"/>
            <a:ext cx="240012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d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6" action="ppaction://hlinksldjump"/>
          </p:cNvPr>
          <p:cNvSpPr/>
          <p:nvPr/>
        </p:nvSpPr>
        <p:spPr>
          <a:xfrm>
            <a:off x="-252360" y="3325680"/>
            <a:ext cx="2400120" cy="38448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ôvody digitaliz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324000" y="26028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8" name="">
            <a:hlinkClick r:id="rId8" action="ppaction://hlinksldjump"/>
          </p:cNvPr>
          <p:cNvSpPr/>
          <p:nvPr/>
        </p:nvSpPr>
        <p:spPr>
          <a:xfrm>
            <a:off x="-243000" y="2394000"/>
            <a:ext cx="2400480" cy="384120"/>
          </a:xfrm>
          <a:prstGeom prst="roundRect">
            <a:avLst>
              <a:gd name="adj" fmla="val 50000"/>
            </a:avLst>
          </a:prstGeom>
          <a:solidFill>
            <a:srgbClr val="baad94"/>
          </a:solidFill>
          <a:ln w="0">
            <a:noFill/>
          </a:ln>
          <a:effectLst>
            <a:outerShdw dist="17819" dir="2700000" blurRad="0" rotWithShape="0">
              <a:srgbClr val="6f67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843280" y="1268280"/>
            <a:ext cx="6481800" cy="0"/>
          </a:xfrm>
          <a:prstGeom prst="line">
            <a:avLst/>
          </a:prstGeom>
          <a:ln w="57240">
            <a:solidFill>
              <a:srgbClr val="dcc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muz.sk/" TargetMode="External"/><Relationship Id="rId3" Type="http://schemas.openxmlformats.org/officeDocument/2006/relationships/hyperlink" Target="http://tezaurus.cemuz.sk/" TargetMode="External"/><Relationship Id="rId4" Type="http://schemas.openxmlformats.org/officeDocument/2006/relationships/hyperlink" Target="http://www.snm.sk/cemuz_" TargetMode="External"/><Relationship Id="rId5" Type="http://schemas.openxmlformats.org/officeDocument/2006/relationships/hyperlink" Target="http://www.snm.sk/foru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3240" y="410760"/>
            <a:ext cx="61164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kty digitalizácie múzejných zbier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93760" y="3387600"/>
            <a:ext cx="5464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é národné múz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867656"/>
                </a:solidFill>
                <a:latin typeface="Times New Roman"/>
                <a:ea typeface="Times New Roman"/>
              </a:rPr>
              <a:t>Centrálna evidencia múzejných zbie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án Jurkovi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867656"/>
                </a:solidFill>
                <a:latin typeface="Times New Roman"/>
                <a:ea typeface="Times New Roman"/>
              </a:rPr>
              <a:t>j.jurkovic@snm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77080" y="2492280"/>
            <a:ext cx="1655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593720"/>
            <a:ext cx="6227640" cy="5110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000" y="2060640"/>
            <a:ext cx="2197080" cy="246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a 290 000 predmetov 1. kategó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24360" y="1916280"/>
            <a:ext cx="4392720" cy="30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1700280"/>
            <a:ext cx="5616720" cy="480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50920" y="765000"/>
            <a:ext cx="1857600" cy="59500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124000" y="1413000"/>
            <a:ext cx="6696000" cy="5256000"/>
            <a:chOff x="2124000" y="1413000"/>
            <a:chExt cx="6696000" cy="5256000"/>
          </a:xfrm>
        </p:grpSpPr>
        <p:sp>
          <p:nvSpPr>
            <p:cNvPr id="131" name=""/>
            <p:cNvSpPr/>
            <p:nvPr/>
          </p:nvSpPr>
          <p:spPr>
            <a:xfrm>
              <a:off x="2195640" y="1413000"/>
              <a:ext cx="6480000" cy="52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5"/>
            <a:stretch/>
          </p:blipFill>
          <p:spPr>
            <a:xfrm>
              <a:off x="2124000" y="1413000"/>
              <a:ext cx="6696000" cy="50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2866680" y="6922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á tabu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5796000" y="3068640"/>
            <a:ext cx="7207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12000" y="2492280"/>
            <a:ext cx="1655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1341360"/>
            <a:ext cx="5472000" cy="538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rcRect l="3865" t="30521" r="33390" b="15332"/>
          <a:stretch/>
        </p:blipFill>
        <p:spPr>
          <a:xfrm>
            <a:off x="2340000" y="1484280"/>
            <a:ext cx="6551640" cy="4240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076720" y="1700280"/>
            <a:ext cx="1008000" cy="649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205000"/>
            <a:ext cx="433440" cy="3313080"/>
          </a:xfrm>
          <a:prstGeom prst="rect">
            <a:avLst/>
          </a:prstGeom>
          <a:solidFill>
            <a:srgbClr val="bbe0e3">
              <a:alpha val="36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459640" y="2152800"/>
            <a:ext cx="432000" cy="3398760"/>
          </a:xfrm>
          <a:prstGeom prst="rect">
            <a:avLst/>
          </a:prstGeom>
          <a:solidFill>
            <a:srgbClr val="bbe0e3">
              <a:alpha val="36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1700280"/>
            <a:ext cx="1008000" cy="649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3357720"/>
            <a:ext cx="1008000" cy="57600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3357720"/>
            <a:ext cx="934920" cy="502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1773360"/>
            <a:ext cx="1008000" cy="57600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66680" y="6922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á tabu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5373720"/>
            <a:ext cx="1081080" cy="649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5551560"/>
            <a:ext cx="2481120" cy="16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54784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ločenskovedné odb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597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5348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6948360" cy="4003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86040" y="133812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v po 15. rokoch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33080" y="595008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uľka aktuálneho sta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43280" y="4869000"/>
            <a:ext cx="5905440" cy="28872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3933720"/>
            <a:ext cx="5905440" cy="9352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933720"/>
            <a:ext cx="5905440" cy="122400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úzejné zbierk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c či menej ucelené dokumentačné systém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systém vedomostí o predmetoch v historických súvislosti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organizované predmety – hmotné objek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2205000"/>
            <a:ext cx="6065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bierkové predm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otné doklady vývoja prírody a spoloč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pramene 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hmotné dô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360" y="765000"/>
            <a:ext cx="5976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sú múzejné zbier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843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Čo digitalizu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1700280"/>
            <a:ext cx="5111640" cy="20890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čné, determinačné a deskripčné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ác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 a vzť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3789360"/>
            <a:ext cx="5111640" cy="158436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ÁLNE OBJE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álne doklady vývoja spoločnosti a prír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jedinečné a svojím spôsobom nenahraditeľ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2852640"/>
            <a:ext cx="4897440" cy="93672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áta a sémant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orný popis predmetov (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ové väzby informačných objektov (CRM)</a:t>
            </a: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3789360"/>
            <a:ext cx="4897440" cy="24494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álne o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cké zobra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ukové a AV zázn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adiálne zos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843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Čo digitalizu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852640"/>
            <a:ext cx="4897440" cy="12956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o vieme o predm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149720"/>
            <a:ext cx="4897440" cy="20178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o môže sprostredkovať digitálny zástupca zbierkového predm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549360"/>
            <a:ext cx="237636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93" y="2449"/>
                </a:moveTo>
                <a:lnTo>
                  <a:pt x="-4776" y="2449"/>
                </a:lnTo>
                <a:lnTo>
                  <a:pt x="-4776" y="51194"/>
                </a:lnTo>
                <a:lnTo>
                  <a:pt x="20806" y="63303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kolnosti nález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o, kedy, ak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 akom prostred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 ako st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628640"/>
            <a:ext cx="2376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93" y="2287"/>
                </a:moveTo>
                <a:lnTo>
                  <a:pt x="-2857" y="2287"/>
                </a:lnTo>
                <a:lnTo>
                  <a:pt x="-2857" y="21759"/>
                </a:lnTo>
                <a:lnTo>
                  <a:pt x="21268" y="31860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alýza predmetu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hmo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ozmery, hmotnos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er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chnik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ístrojové analý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49360"/>
            <a:ext cx="23767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2449"/>
                </a:moveTo>
                <a:lnTo>
                  <a:pt x="25626" y="2449"/>
                </a:lnTo>
                <a:lnTo>
                  <a:pt x="25626" y="48983"/>
                </a:lnTo>
                <a:lnTo>
                  <a:pt x="4487" y="65106"/>
                </a:lnTo>
              </a:path>
            </a:pathLst>
          </a:custGeom>
          <a:solidFill>
            <a:srgbClr val="ddf0f1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äzby s pôvodným prostredí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istorické okol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ografické prostr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árodné determina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1628640"/>
            <a:ext cx="237672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2287"/>
                </a:moveTo>
                <a:lnTo>
                  <a:pt x="23937" y="2287"/>
                </a:lnTo>
                <a:lnTo>
                  <a:pt x="23937" y="20552"/>
                </a:lnTo>
                <a:lnTo>
                  <a:pt x="3809" y="33861"/>
                </a:lnTo>
              </a:path>
            </a:pathLst>
          </a:custGeom>
          <a:solidFill>
            <a:srgbClr val="ddf0f1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äzby na súčasné vedom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nalecké (individuál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kade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akt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852640"/>
            <a:ext cx="4897440" cy="12956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dáta a vzťahov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orný popis predmetov (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ové väzby informačných objektov (CRM)</a:t>
            </a: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4149720"/>
            <a:ext cx="4897440" cy="20178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álne objek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cké zobra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 a zvukové zázn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madiálne pre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74268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2000" y="5445000"/>
            <a:ext cx="230508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14" y="2287"/>
                </a:moveTo>
                <a:lnTo>
                  <a:pt x="25349" y="2287"/>
                </a:lnTo>
                <a:lnTo>
                  <a:pt x="25349" y="-15660"/>
                </a:lnTo>
                <a:lnTo>
                  <a:pt x="3050" y="-24967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astúpenie predmet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unk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ývo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nútorná štruktú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5445000"/>
            <a:ext cx="244800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2" y="2287"/>
                </a:moveTo>
                <a:lnTo>
                  <a:pt x="-2647" y="2287"/>
                </a:lnTo>
                <a:lnTo>
                  <a:pt x="-2647" y="-16073"/>
                </a:lnTo>
                <a:lnTo>
                  <a:pt x="20647" y="-25602"/>
                </a:lnTo>
              </a:path>
            </a:pathLst>
          </a:custGeom>
          <a:solidFill>
            <a:srgbClr val="ddf0f1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obrazenie predmetu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grafick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štruktúra povr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43280" y="1700280"/>
            <a:ext cx="5689440" cy="20890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A  KULTÚRNEHO DEDIČ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 majet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stavu (kontrola stavu a pohybu zbier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ovanie informác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3789360"/>
            <a:ext cx="5689440" cy="216072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STREDKOVANIE  KULTÚRNEHO DEDIČ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kytnutie pre vedu a výsk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atnenie v oblasti vzdelávania a výcho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ístupnenie pre komerčné úč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635280" y="2708280"/>
            <a:ext cx="5113440" cy="144144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MUZ 1.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prevod „papierovej“ ev. do elektronickej podo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dentifikačná obrazová dokument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zaznamenanie procesu zmien ob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4149720"/>
            <a:ext cx="5113440" cy="158436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MUZ 2.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stúpenie hmotného objektu digitál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etácia zbierkového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ácia kultúrnymi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7280" y="765000"/>
            <a:ext cx="6620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vod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36800" y="278136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omplexnosť digitalizácie údaj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07520" y="5013360"/>
            <a:ext cx="48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valita digitálneho zástu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43280" y="2205000"/>
            <a:ext cx="6049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gitalizáciu múzejných zbierok nie je možné urobiť podľa jednej sch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e to náročný proces, pri ktorom je nevyhnutné zohľadňovanie mnohých aspekt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individuálna voľba met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ód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916280"/>
            <a:ext cx="5256000" cy="153648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MET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zie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čná hod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ktívnos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4365720"/>
            <a:ext cx="5256000" cy="1401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beb1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a uchov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a a výsk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ístupn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5364000" y="1365120"/>
            <a:ext cx="2087640" cy="914400"/>
          </a:xfrm>
          <a:prstGeom prst="borderCallout1">
            <a:avLst>
              <a:gd name="adj1" fmla="val -2907"/>
              <a:gd name="adj2" fmla="val 23400"/>
              <a:gd name="adj3" fmla="val 20417"/>
              <a:gd name="adj4" fmla="val 23400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šné ob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ob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avreté prie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é prie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6516720" y="2624040"/>
            <a:ext cx="2448000" cy="660600"/>
          </a:xfrm>
          <a:prstGeom prst="borderCallout1">
            <a:avLst>
              <a:gd name="adj1" fmla="val -7942"/>
              <a:gd name="adj2" fmla="val -2492"/>
              <a:gd name="adj3" fmla="val 20591"/>
              <a:gd name="adj4" fmla="val -2492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álny vý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álny vý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udijný a komparačný mater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2938320"/>
            <a:ext cx="1871640" cy="771840"/>
          </a:xfrm>
          <a:prstGeom prst="borderCallout1">
            <a:avLst>
              <a:gd name="adj1" fmla="val -2400"/>
              <a:gd name="adj2" fmla="val -2133"/>
              <a:gd name="adj3" fmla="val 20281"/>
              <a:gd name="adj4" fmla="val -2133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z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ačná úrove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3068640"/>
            <a:ext cx="4249800" cy="1584360"/>
          </a:xfrm>
          <a:prstGeom prst="rect">
            <a:avLst/>
          </a:prstGeom>
          <a:solidFill>
            <a:srgbClr val="993300">
              <a:alpha val="62000"/>
            </a:srgbClr>
          </a:solidFill>
          <a:ln w="9360">
            <a:solidFill>
              <a:srgbClr val="ae8f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ódy digitaliz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zionalita digitaliz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v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ĺ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852640"/>
            <a:ext cx="3168720" cy="654120"/>
          </a:xfrm>
          <a:prstGeom prst="borderCallout1">
            <a:avLst>
              <a:gd name="adj1" fmla="val -1147"/>
              <a:gd name="adj2" fmla="val 24117"/>
              <a:gd name="adj3" fmla="val 20821"/>
              <a:gd name="adj4" fmla="val 241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álna fotogra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adaná dig. fotografia (lineárna, sférická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3817800"/>
            <a:ext cx="1295640" cy="736560"/>
          </a:xfrm>
          <a:prstGeom prst="borderCallout1">
            <a:avLst>
              <a:gd name="adj1" fmla="val -8841"/>
              <a:gd name="adj2" fmla="val -2234"/>
              <a:gd name="adj3" fmla="val 19694"/>
              <a:gd name="adj4" fmla="val -223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č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5940360" y="4956120"/>
            <a:ext cx="2952720" cy="690480"/>
          </a:xfrm>
          <a:prstGeom prst="borderCallout1">
            <a:avLst>
              <a:gd name="adj1" fmla="val -4297"/>
              <a:gd name="adj2" fmla="val -2383"/>
              <a:gd name="adj3" fmla="val 20764"/>
              <a:gd name="adj4" fmla="val -2383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enie zmien vplyvom času a prostr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ácia reštaurátorských zásah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álny „odtlačok prsta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5175360"/>
            <a:ext cx="3171960" cy="577800"/>
          </a:xfrm>
          <a:prstGeom prst="borderCallout1">
            <a:avLst>
              <a:gd name="adj1" fmla="val -4097"/>
              <a:gd name="adj2" fmla="val -2848"/>
              <a:gd name="adj3" fmla="val 20822"/>
              <a:gd name="adj4" fmla="val -2848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yššia úroveň technických  možností zastúpiť hmotný artefakt digitálnym objek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407200"/>
            <a:ext cx="1871640" cy="1004760"/>
          </a:xfrm>
          <a:prstGeom prst="borderCallout1">
            <a:avLst>
              <a:gd name="adj1" fmla="val -4214"/>
              <a:gd name="adj2" fmla="val -1638"/>
              <a:gd name="adj3" fmla="val 20281"/>
              <a:gd name="adj4" fmla="val -1638"/>
            </a:avLst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ívne potre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orné úč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aktické využi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čné uplatn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čné využi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6948360" y="4076640"/>
            <a:ext cx="1584360" cy="1008000"/>
          </a:xfrm>
          <a:prstGeom prst="borderCallout1">
            <a:avLst>
              <a:gd name="adj1" fmla="val -30582"/>
              <a:gd name="adj2" fmla="val -1633"/>
              <a:gd name="adj3" fmla="val 20042"/>
              <a:gd name="adj4" fmla="val -16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z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ýza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ť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e ob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útorná štruktú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51280" y="764640"/>
            <a:ext cx="61927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y digitaliz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1844640"/>
            <a:ext cx="5205240" cy="1536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DIGITALIZ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kter pred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kumentačná hod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raktívnos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365720"/>
            <a:ext cx="5105160" cy="1401840"/>
          </a:xfrm>
          <a:prstGeom prst="rect">
            <a:avLst/>
          </a:prstGeom>
          <a:solidFill>
            <a:srgbClr val="baad94">
              <a:alpha val="65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ČO DIGITALIZ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chov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sk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ístupn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3068640"/>
            <a:ext cx="4176720" cy="158436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y digitaliz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z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v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ĺ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1773360"/>
            <a:ext cx="5977080" cy="4464000"/>
          </a:xfrm>
          <a:prstGeom prst="rect">
            <a:avLst/>
          </a:prstGeom>
          <a:solidFill>
            <a:srgbClr val="baad94">
              <a:alpha val="78000"/>
            </a:srgbClr>
          </a:solidFill>
          <a:ln w="9360">
            <a:solidFill>
              <a:srgbClr val="867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35640" y="551664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ó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0360" y="450864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2920" y="450864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7280" y="3429000"/>
            <a:ext cx="165744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tí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rot="6000">
            <a:off x="4137840" y="3859200"/>
            <a:ext cx="360360" cy="506520"/>
          </a:xfrm>
          <a:prstGeom prst="upDownArrow">
            <a:avLst>
              <a:gd name="adj1" fmla="val 50000"/>
              <a:gd name="adj2" fmla="val 27981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492280"/>
            <a:ext cx="1942920" cy="368280"/>
          </a:xfrm>
          <a:prstGeom prst="rect">
            <a:avLst/>
          </a:prstGeom>
          <a:solidFill>
            <a:srgbClr val="ffd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846800">
            <a:off x="4284720" y="2781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1846800">
            <a:off x="5940000" y="4940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19753200">
            <a:off x="4642920" y="4940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1773360"/>
            <a:ext cx="597708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f8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izácia múzejných zbie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8000" y="3429000"/>
            <a:ext cx="1584360" cy="368280"/>
          </a:xfrm>
          <a:prstGeom prst="rect">
            <a:avLst/>
          </a:prstGeom>
          <a:solidFill>
            <a:srgbClr val="9f8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19753200">
            <a:off x="6300720" y="2781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860640"/>
            <a:ext cx="360360" cy="508320"/>
          </a:xfrm>
          <a:prstGeom prst="upDownArrow">
            <a:avLst>
              <a:gd name="adj1" fmla="val 50000"/>
              <a:gd name="adj2" fmla="val 28081"/>
            </a:avLst>
          </a:prstGeom>
          <a:solidFill>
            <a:srgbClr val="bbe0e3"/>
          </a:solidFill>
          <a:ln w="9360">
            <a:solidFill>
              <a:srgbClr val="f2e7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51280" y="765000"/>
            <a:ext cx="6192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628640"/>
            <a:ext cx="6086520" cy="4667760"/>
          </a:xfrm>
          <a:prstGeom prst="rect">
            <a:avLst/>
          </a:prstGeom>
          <a:solidFill>
            <a:srgbClr val="ffffff"/>
          </a:solidFill>
          <a:ln w="76320">
            <a:solidFill>
              <a:srgbClr val="d5cf9f"/>
            </a:solidFill>
            <a:miter/>
          </a:ln>
          <a:effectLst>
            <a:outerShdw dist="17819" dir="2700000" blurRad="0" rotWithShape="0">
              <a:srgbClr val="ccc3b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Centrálny katalóg múzejných zbierok v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emuz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Riadená múzejná terminológia </a:t>
            </a:r>
            <a:r>
              <a:rPr b="0" i="1" lang="en-US" sz="2000" spc="-1" strike="noStrike">
                <a:solidFill>
                  <a:srgbClr val="497e93"/>
                </a:solidFill>
                <a:latin typeface="Times New Roman"/>
              </a:rPr>
              <a:t>(pojmové aut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http://safe.cemuz.sk/AutorityModul</a:t>
            </a:r>
            <a:r>
              <a:rPr b="0" i="1" lang="en-US" sz="1800" spc="-1" strike="noStrike">
                <a:solidFill>
                  <a:srgbClr val="497e93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Kooperačný portál </a:t>
            </a:r>
            <a:r>
              <a:rPr b="0" i="1" lang="en-US" sz="2000" spc="-1" strike="noStrike">
                <a:solidFill>
                  <a:srgbClr val="497e93"/>
                </a:solidFill>
                <a:latin typeface="Times New Roman"/>
              </a:rPr>
              <a:t>(kontrolovaný prístup</a:t>
            </a:r>
            <a:r>
              <a:rPr b="0" i="1" lang="en-US" sz="1800" spc="-1" strike="noStrike">
                <a:solidFill>
                  <a:srgbClr val="497e9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tezaurus.cemuz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Metod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snm.sk/cemuz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97e93"/>
                </a:solidFill>
                <a:latin typeface="Times New Roman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http://www.snm.sk/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519200"/>
            <a:ext cx="60483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48000" y="2349360"/>
            <a:ext cx="5472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5042" r="0" b="0"/>
          <a:stretch/>
        </p:blipFill>
        <p:spPr>
          <a:xfrm>
            <a:off x="2340000" y="1989000"/>
            <a:ext cx="6588000" cy="4070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67760" y="692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lustračný gr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2997360"/>
            <a:ext cx="172728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álna fotograf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D zobrazen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 prostr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 funkci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ásledné zobrazen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3030480"/>
            <a:ext cx="2232000" cy="107496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70320" y="1989000"/>
            <a:ext cx="206712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995"/>
              <a:gd name="adj5" fmla="val 136763"/>
              <a:gd name="adj6" fmla="val -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16 bitová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DR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ladaná fotogra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4080" y="2695680"/>
            <a:ext cx="2448000" cy="662040"/>
          </a:xfrm>
          <a:prstGeom prst="borderCallout2">
            <a:avLst>
              <a:gd name="adj1" fmla="val 18750"/>
              <a:gd name="adj2" fmla="val -8333"/>
              <a:gd name="adj3" fmla="val 17263"/>
              <a:gd name="adj4" fmla="val 108365"/>
              <a:gd name="adj5" fmla="val 219662"/>
              <a:gd name="adj6" fmla="val 108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štandardná veľkosť (5 – 80 c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eľkorozmerné/miniatú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++ scan detail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756400"/>
            <a:ext cx="229572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07328"/>
              <a:gd name="adj5" fmla="val -235962"/>
              <a:gd name="adj6" fmla="val 10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izualizácia vnútorných priestor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vizualizácia otvorených priestor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5734080"/>
            <a:ext cx="24433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296"/>
              <a:gd name="adj5" fmla="val -184634"/>
              <a:gd name="adj6" fmla="val -20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technické modely funkcií (C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prezentačné modely (multimediál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1280" y="14320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cký a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8:25:39Z</dcterms:created>
  <dc:creator>jano</dc:creator>
  <dc:description/>
  <dc:language>en-US</dc:language>
  <cp:lastModifiedBy>Ján Jurkovič</cp:lastModifiedBy>
  <dcterms:modified xsi:type="dcterms:W3CDTF">2007-09-26T05:52:14Z</dcterms:modified>
  <cp:revision>83</cp:revision>
  <dc:subject/>
  <dc:title>Aké sú dôvody digitalizácie</dc:title>
</cp:coreProperties>
</file>