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9C3-EF01-46DF-8458-92E1F98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C2C-E363-4EC5-A2EC-AAAA480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CD7-BD9C-4EA6-85D0-F911BD6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670-1DDD-4930-98BD-92165709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B1D-1FAB-4AD1-A221-8BF8232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0DE-F72B-4F1B-B1C8-4F8EA75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B8E-31CD-4F12-9F55-C869C1D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5FF-35F7-48CF-944F-AD99811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A94-08B6-4E4E-ADC3-AC34ADA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CF9-98CB-4A66-BC53-144AE049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1BD-5154-49C3-A99D-BBCFC8F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2AD-6AE5-46D1-B530-27557687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c0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DF93-3F6B-4D84-8FEC-6C6670F0DB22}" type="datetime">
              <a:rPr b="0" lang="en-US" sz="1200" spc="-1" strike="noStrike">
                <a:solidFill>
                  <a:srgbClr val="dfc08d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c0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934-8E0E-4AB3-B8CE-F8B01961DD85}" type="slidenum">
              <a:rPr b="0" lang="en-US" sz="1200" spc="-1" strike="noStrike">
                <a:solidFill>
                  <a:srgbClr val="dfc08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57240">
            <a:solidFill>
              <a:srgbClr val="9d68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07280" cy="0"/>
          </a:xfrm>
          <a:prstGeom prst="line">
            <a:avLst/>
          </a:prstGeom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afe.cemuz.sk/AutorityModul/" TargetMode="External"/><Relationship Id="rId2" Type="http://schemas.openxmlformats.org/officeDocument/2006/relationships/hyperlink" Target="http://safe.cemuz.sk/AutorityModul/" TargetMode="External"/><Relationship Id="rId3" Type="http://schemas.openxmlformats.org/officeDocument/2006/relationships/hyperlink" Target="http://www.eheritage.sk/adenin/" TargetMode="External"/><Relationship Id="rId4" Type="http://schemas.openxmlformats.org/officeDocument/2006/relationships/hyperlink" Target="http://www.eheritage.sk/adenin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dfc08d"/>
                </a:solidFill>
                <a:latin typeface="Verdana"/>
              </a:rPr>
              <a:t>Aspekty digitlizácie</a:t>
            </a:r>
            <a:endParaRPr b="1" lang="en-US" sz="54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d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4869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án Jurkovi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25200" y="606240"/>
            <a:ext cx="1903680" cy="1848600"/>
            <a:chOff x="3625200" y="606240"/>
            <a:chExt cx="1903680" cy="1848600"/>
          </a:xfrm>
        </p:grpSpPr>
        <p:sp>
          <p:nvSpPr>
            <p:cNvPr id="47" name="Puzzle3"/>
            <p:cNvSpPr/>
            <p:nvPr/>
          </p:nvSpPr>
          <p:spPr>
            <a:xfrm rot="2793000">
              <a:off x="4731480" y="1047240"/>
              <a:ext cx="588240" cy="828360"/>
            </a:xfrm>
            <a:prstGeom prst="pie">
              <a:avLst/>
            </a:prstGeom>
            <a:solidFill>
              <a:srgbClr val="ffbe7d">
                <a:alpha val="44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Puzzle2"/>
            <p:cNvSpPr/>
            <p:nvPr/>
          </p:nvSpPr>
          <p:spPr>
            <a:xfrm rot="2793000">
              <a:off x="4148280" y="1477080"/>
              <a:ext cx="939240" cy="754560"/>
            </a:xfrm>
            <a:prstGeom prst="pie">
              <a:avLst/>
            </a:prstGeom>
            <a:solidFill>
              <a:srgbClr val="ffffcc">
                <a:alpha val="64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Puzzle4"/>
            <p:cNvSpPr/>
            <p:nvPr/>
          </p:nvSpPr>
          <p:spPr>
            <a:xfrm rot="2793000">
              <a:off x="3886920" y="1038600"/>
              <a:ext cx="566280" cy="964440"/>
            </a:xfrm>
            <a:prstGeom prst="pie">
              <a:avLst/>
            </a:prstGeom>
            <a:solidFill>
              <a:srgbClr val="d8ebb3">
                <a:alpha val="64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Puzzle1"/>
            <p:cNvSpPr/>
            <p:nvPr/>
          </p:nvSpPr>
          <p:spPr>
            <a:xfrm rot="2793000">
              <a:off x="4083840" y="861480"/>
              <a:ext cx="951120" cy="574920"/>
            </a:xfrm>
            <a:prstGeom prst="pie">
              <a:avLst/>
            </a:prstGeom>
            <a:solidFill>
              <a:srgbClr val="ccccff">
                <a:alpha val="64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459-5DE6-4E76-98D3-8D9798E1BB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4409-5E54-42E8-81F0-6E9383718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Autority knihovníkov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záznamy v katalogizačnom systéme - </a:t>
            </a:r>
            <a:r>
              <a:rPr b="1" lang="sk-SK" sz="1800" spc="-1" strike="noStrike">
                <a:solidFill>
                  <a:srgbClr val="ffff66"/>
                </a:solidFill>
                <a:latin typeface="Verdana"/>
              </a:rPr>
              <a:t>normalizované podoby mena, názvu, miesta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 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vytvárajú sa </a:t>
            </a:r>
            <a:r>
              <a:rPr b="1" lang="sk-SK" sz="1800" spc="-1" strike="noStrike">
                <a:solidFill>
                  <a:srgbClr val="ffff66"/>
                </a:solidFill>
                <a:latin typeface="Verdana"/>
              </a:rPr>
              <a:t>pre kontrolu jednotnej formy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 mien a zápis odkazov, používaných v súvislosti so selekčnými údajmi pre mená osôb, rodín, korporácií, názvy diel, predmetov, udalostí, miest, jednoti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Verdana"/>
              </a:rPr>
              <a:t>vzťahy medzi záznamami -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 hierarchické, ekvivalentné, asociatívn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knižničné selekčné údaje v zázname autorít zahŕňajú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autorizované meno alebo náz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variantné formy mena alebo názv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doplnkové selekčné údaj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jeden záznam mnohonásobne využívaný pri spracovan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zaručujú previazanie záznamov o objektoch a tak vytvárajú systém odkazových prostriedk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prostredníctvom záznamov autorít sú používatelia navigovaní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v katalóg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4DF-1B95-49E7-9D49-7112F69443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BD085-9D7A-4600-95DA-D886C043B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Existujúce autorit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tority personálne a korporatív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oby a korporácie, ktoré je potrebné z nejakého dôvodu evidovať, majú význam pre spracovanie záznamu o dokumente, objek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ografické auto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ácie o geografických miestach, ktoré súvis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 katalogizovaným objektom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ministratívne jednotky - kultúrne celky (ríše, národy, štáty, kraje, okresy, obce, obvody, mestá), súčasné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historické miesta (bývalé krajiny, opustené usadlosti), názvy archeologických nálezísk, adries, ulí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dmetové autorit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lastné mená, literárne a mytologické mená, náboženské postavy alebo témy, historické udalosti alebo témy a ostatnú terminológi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jmové auto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sahujú termíny pre popis objekt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32E-F914-47FC-96A4-2A4699DC61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013E8-DD58-48F4-B0E1-79EF58B2D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Štandardizované pojm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áš najbližší cieľ je premeniť číselníky ESEZ n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systém kontrolovaných pojmov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rmonizovať ich so záväznými štandardami – národným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medzinárodným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istujúce číselníky v ESEZ pre určenie, zatriedenie a popis predmetov transformovať na záväzný terminologický slovník na úrovni národných štandardov – na „autoritatívne“ záznam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- hlavné prostriedky: tvorba obsahu a </a:t>
            </a:r>
            <a:r>
              <a:rPr b="1" lang="en-US" sz="1800" spc="-1" strike="noStrike">
                <a:solidFill>
                  <a:srgbClr val="8c9ea0"/>
                </a:solidFill>
                <a:latin typeface="Verdana"/>
              </a:rPr>
              <a:t>technológ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istujúce záznamy o osobách, inštitúciách a lokalitách v ESEZ harmonizovať s existujúcimi personálnymi, korporatívnymi a geografickými autoritami, ktoré spravuje SN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8c9ea0"/>
                </a:solidFill>
                <a:latin typeface="Verdana"/>
              </a:rPr>
              <a:t>- hlavné prostriedky: technológie a operác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9ea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8DC-8293-4275-8329-AB828B7DFE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F93E2-6CC5-422D-92A1-DD3CF4CCA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Harmonizácia podľa CCO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114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Personálne a korporatívne auto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r/pôvod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ôvodný majite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ísk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vz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íjemca predmet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íz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kumentá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rči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žívate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erate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lastník prá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700280"/>
            <a:ext cx="4114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Geografické aut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kal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esto vz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esto nále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esto použí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esto pôsobenia, at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ktuálne umiestn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valé umiestn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esto použí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účasné umiestn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došlé umiestnenie, miesto objav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D3F-172B-4516-A91E-CD4B684886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4F229-9146-4561-AC78-4EBBE5D41B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ESEZ - číselník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4872" b="15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1628640"/>
            <a:ext cx="3959280" cy="216000"/>
          </a:xfrm>
          <a:prstGeom prst="rect">
            <a:avLst/>
          </a:prstGeom>
          <a:solidFill>
            <a:srgbClr val="8c7b70">
              <a:alpha val="75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429000"/>
            <a:ext cx="2880000" cy="21600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3645000"/>
            <a:ext cx="2880000" cy="21564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60640"/>
            <a:ext cx="2880000" cy="29052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4724280"/>
            <a:ext cx="2521080" cy="21744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941720"/>
            <a:ext cx="2521080" cy="21600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157720"/>
            <a:ext cx="2521080" cy="21600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5734080"/>
            <a:ext cx="2521080" cy="216000"/>
          </a:xfrm>
          <a:prstGeom prst="rect">
            <a:avLst/>
          </a:prstGeom>
          <a:solidFill>
            <a:srgbClr val="8c7b7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724280"/>
            <a:ext cx="2736720" cy="217440"/>
          </a:xfrm>
          <a:prstGeom prst="rect">
            <a:avLst/>
          </a:prstGeom>
          <a:solidFill>
            <a:srgbClr val="66990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157720"/>
            <a:ext cx="2736720" cy="216000"/>
          </a:xfrm>
          <a:prstGeom prst="rect">
            <a:avLst/>
          </a:prstGeom>
          <a:solidFill>
            <a:srgbClr val="669900">
              <a:alpha val="76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374920"/>
            <a:ext cx="5041800" cy="3988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6833"/>
                </a:solidFill>
                <a:latin typeface="Verdana"/>
              </a:rPr>
              <a:t>inštitúc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2901960"/>
            <a:ext cx="5041800" cy="3988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6833"/>
                </a:solidFill>
                <a:latin typeface="Verdana"/>
              </a:rPr>
              <a:t>men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429000"/>
            <a:ext cx="5041800" cy="3988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6833"/>
                </a:solidFill>
                <a:latin typeface="Verdana"/>
              </a:rPr>
              <a:t>mie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76560" y="404640"/>
            <a:ext cx="157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d6833"/>
                </a:solidFill>
                <a:latin typeface="Verdana"/>
              </a:rPr>
              <a:t>múze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d6833"/>
                </a:solidFill>
                <a:latin typeface="Verdana"/>
              </a:rPr>
              <a:t>výrobcov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d6833"/>
                </a:solidFill>
                <a:latin typeface="Verdana"/>
              </a:rPr>
              <a:t>organizác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d6833"/>
                </a:solidFill>
                <a:latin typeface="Verdana"/>
              </a:rPr>
              <a:t>spolky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2347920"/>
            <a:ext cx="5041800" cy="398880"/>
          </a:xfrm>
          <a:prstGeom prst="rect">
            <a:avLst/>
          </a:prstGeom>
          <a:solidFill>
            <a:srgbClr val="433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orporatívne aut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2924280"/>
            <a:ext cx="5041800" cy="398880"/>
          </a:xfrm>
          <a:prstGeom prst="rect">
            <a:avLst/>
          </a:prstGeom>
          <a:solidFill>
            <a:srgbClr val="433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sonálne aut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3429000"/>
            <a:ext cx="5041800" cy="398880"/>
          </a:xfrm>
          <a:prstGeom prst="rect">
            <a:avLst/>
          </a:prstGeom>
          <a:solidFill>
            <a:srgbClr val="433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ografické aut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F1D-58EB-4135-B0F0-2CF5B8C4A7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A176A-6FC3-4FBA-9276-82B5301E1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9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52451E-006 L 0.35052 0.21508 E">
                                      <p:cBhvr>
                                        <p:cTn id="66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51064E-007 L 0.48837 -0.04185 E">
                                      <p:cBhvr>
                                        <p:cTn id="66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51064E-007 L 0.48837 -0.08395 E">
                                      <p:cBhvr>
                                        <p:cTn id="66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03053E-006 L 0.48837 -0.12581 E">
                                      <p:cBhvr>
                                        <p:cTn id="66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8.51064E-007 L 0.20486 -0.24121 E">
                                      <p:cBhvr>
                                        <p:cTn id="66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677 L 0.20087 -0.23589 E">
                                      <p:cBhvr>
                                        <p:cTn id="67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5781 L 0.20087 -0.23589 E">
                                      <p:cBhvr>
                                        <p:cTn id="67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8.51064E-007 L 0.20486 -0.37765 E">
                                      <p:cBhvr>
                                        <p:cTn id="67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11841E-006 L 0.48837 -0.17831 E">
                                      <p:cBhvr>
                                        <p:cTn id="68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0.48837 -0.25162 E">
                                      <p:cBhvr>
                                        <p:cTn id="68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ojmové štandard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Základné typy pojmov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 štruktúre popisu múzejného zbierkového predmet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upina (odb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dskupi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ierk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teriá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ik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ieda (podľa CCO, prebrať z AA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ultúra (podľa CCO, pojmové autor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881-0114-428C-AAD8-7066D7F1E4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6F391-38B4-4169-9567-6073B75ED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ESEZ - číselník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4872" b="15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205000"/>
            <a:ext cx="2736720" cy="216000"/>
          </a:xfrm>
          <a:prstGeom prst="rect">
            <a:avLst/>
          </a:prstGeom>
          <a:solidFill>
            <a:srgbClr val="dfc08d">
              <a:alpha val="87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205000"/>
            <a:ext cx="1871640" cy="216000"/>
          </a:xfrm>
          <a:prstGeom prst="rect">
            <a:avLst/>
          </a:prstGeom>
          <a:solidFill>
            <a:srgbClr val="dfc08d">
              <a:alpha val="87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421000"/>
            <a:ext cx="2736720" cy="216000"/>
          </a:xfrm>
          <a:prstGeom prst="rect">
            <a:avLst/>
          </a:prstGeom>
          <a:solidFill>
            <a:srgbClr val="dfc08d">
              <a:alpha val="87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02200" y="2816280"/>
            <a:ext cx="5041800" cy="3988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6833"/>
                </a:solidFill>
                <a:latin typeface="Verdana"/>
              </a:rPr>
              <a:t>pojmové štandardy – 1. eta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02200" y="2421000"/>
            <a:ext cx="5041800" cy="398880"/>
          </a:xfrm>
          <a:prstGeom prst="rect">
            <a:avLst/>
          </a:prstGeom>
          <a:solidFill>
            <a:srgbClr val="433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metné autority – 2. eta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5445000"/>
            <a:ext cx="2376360" cy="216000"/>
          </a:xfrm>
          <a:prstGeom prst="rect">
            <a:avLst/>
          </a:prstGeom>
          <a:solidFill>
            <a:srgbClr val="dfc08d">
              <a:alpha val="87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445000"/>
            <a:ext cx="2519280" cy="216000"/>
          </a:xfrm>
          <a:prstGeom prst="rect">
            <a:avLst/>
          </a:prstGeom>
          <a:solidFill>
            <a:srgbClr val="dfc08d">
              <a:alpha val="87000"/>
            </a:srgbClr>
          </a:solidFill>
          <a:ln w="1908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125360"/>
            <a:ext cx="4752720" cy="287640"/>
          </a:xfrm>
          <a:prstGeom prst="rect">
            <a:avLst/>
          </a:prstGeom>
          <a:solidFill>
            <a:srgbClr val="dfc08d">
              <a:alpha val="87000"/>
            </a:srgbClr>
          </a:solidFill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B2C-8E16-4DDC-874A-1CF2D33CD5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1B8B-F84D-47D1-96BE-7420FB226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rípravná etapa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Verdana"/>
              </a:rPr>
              <a:t>1. etapa harmonizácie základných pojm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Verdana"/>
              </a:rPr>
              <a:t>revízia pojmov v číselníko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pracovné skupiny zostavené z múzejník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pracovný harmonogr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pravidlá postup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8c9ea0"/>
                </a:solidFill>
                <a:latin typeface="Verdana"/>
              </a:rPr>
              <a:t>harmonizácia pojmov s normou C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metodika implementovaná v systéme – Modul Auto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rešpektovanie systému a metodiky (osoba poverená metodickým dohľado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dodržiavanie režimu (pracovného harmonogramu a pravidiel postupu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8c9ea0"/>
                </a:solidFill>
                <a:latin typeface="Verdana"/>
              </a:rPr>
              <a:t>synchronizácia číselníkov v ESEZ s terminologickými slovníkmi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Verdana"/>
              </a:rPr>
              <a:t>technologická záležitosť, na ktorej sa pracuje a v priebehu roka 2007 bude vyriešená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A19-826C-4B2B-9604-9A7634460A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41FDB-01C3-4698-9139-DDB49A89F3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rostriedk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Technologické nástroj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b400"/>
                </a:solidFill>
                <a:uFillTx/>
                <a:latin typeface="Verdana"/>
                <a:hlinkClick r:id="rId1"/>
              </a:rPr>
              <a:t>Modul Autority</a:t>
            </a:r>
            <a:r>
              <a:rPr b="0" lang="en-US" sz="1800" spc="-1" strike="noStrike" u="sng">
                <a:solidFill>
                  <a:srgbClr val="ccb400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- nástroj na tvorbu a správu autorí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       a hierarchického tezaur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b400"/>
                </a:solidFill>
                <a:uFillTx/>
                <a:latin typeface="Verdana"/>
                <a:hlinkClick r:id="rId3"/>
              </a:rPr>
              <a:t>Kooperačný modul</a:t>
            </a:r>
            <a:r>
              <a:rPr b="0" lang="en-US" sz="1800" spc="-1" strike="noStrike" u="sng">
                <a:solidFill>
                  <a:srgbClr val="ccb400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nástroj na organizáciu procesu tvorby a správy štandardizovaných pojmov a autorí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Organizačná podpo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zva Sekcie kultúrneho dedičstva múzeá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ystém riadených proces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Metodická podpo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ovisko CEMU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ovná skupina pre interoperabilit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74D-EE05-4E19-806A-3BF140C3A2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1B3B8-4C24-44FF-80FD-88417BDC1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Organizácia tezaurácie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66"/>
                </a:solidFill>
                <a:latin typeface="Verdana"/>
              </a:rPr>
              <a:t>Správcom múzejného tezauru je S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zodpovedá generálny riaditeľ SNM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prevádzku  zabezpečuje pracovisko CEMU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správa systém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metodika technológií a vývoj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kooperácia s národnými a nadnárodnými kultúrnymi informačnými systémam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zodpovedá vedúci pracoviska CEMUZ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redakcia tezaur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kontrola obsahového systému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kontrola a riadenie proceso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medzitímová koordinác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zodpovedá vedúci pracoviska CEMUZ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Verdana"/>
              </a:rPr>
              <a:t>metodický orgán pre tvorbu múzejného tezaur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úvodné školen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metodické poky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konzultáci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Verdana"/>
              </a:rPr>
              <a:t>zodpovedá referát metodiky pracoviska CEMUZ (Mgr. Viera Majchrovičová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716-FA1D-4121-9996-2A70EDA5C1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584B4-A8BA-4362-9D94-04A26FB49D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Aké sú dôvody digitalizácie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676520"/>
            <a:ext cx="7632720" cy="13921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SPRÁVYA KULTÚRNEHO DEDIČS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evidencia majet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monitoring stavu (kontrola stavu a pohybu zbiero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uchovanie informáci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149720"/>
            <a:ext cx="7704000" cy="13716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23e26"/>
                </a:solidFill>
                <a:latin typeface="Arial"/>
              </a:rPr>
              <a:t>SPROSTREDKOVANIE  KULTÚRNEHO DEDIČS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veda a výsku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výcho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komer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8280"/>
            <a:ext cx="5759640" cy="1152360"/>
          </a:xfrm>
          <a:prstGeom prst="rect">
            <a:avLst/>
          </a:prstGeom>
          <a:solidFill>
            <a:srgbClr val="99330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CEMUZ 1.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1. prevod „papierovej“ ev. do elektronickej podo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2. identifikačná obrazová dokumentá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3. zaznamenanie procesu zmien objekt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5157720"/>
            <a:ext cx="5759280" cy="990720"/>
          </a:xfrm>
          <a:prstGeom prst="rect">
            <a:avLst/>
          </a:prstGeom>
          <a:solidFill>
            <a:srgbClr val="99330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MUZ 2. eta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pretácia artefakt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stúpenie hmotného objektu digitálny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B72-2219-42B0-A42C-08F3DCE978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D8544-D89D-46B7-8EAE-8B42B9068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ostup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Dnešná úloh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nštituovanie prípravnej pracovnej skupiny pre obsahovú harmonizáciu múzejnej terminológie - oficiálny koordinačný orgá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ovný harmonogram – konsenzus tejto pora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Návrh pracovného harmonogram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do 14 dní zvolanie porád pracovných skupí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do 21 dní návrh rozdelenia číselníkov medzi pracovné skupin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9ea0"/>
                </a:solidFill>
                <a:latin typeface="Verdana"/>
              </a:rPr>
              <a:t>do 28 dní vytvorenie pracovného prostredia pre jednotlivé pracovné skupin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 90 dní absolvovanie školení pre prácu s Modulom Autority a Kooperačným Modulom – podľa harmonogramu ...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ajneskôr do konca septembra 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 90 dní zahájenie 1. etapy harmonizáci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 roka ukončenie 1. etapy harmonizác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13F-89E4-4B43-8F29-5EC19C562E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E8621-D0D4-4901-9E2B-4858CEFF65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ostup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Vytvorenie pracovných tím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dúcich a členov pracovných tímov navrhlo predsedníctvo ZM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ovné tímy považujeme za dynamickú štruktú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ostavujú ich vedúci tímu podľa svojho zvážen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súhlasí ich táto prípravná pracovná skupi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žiadavky na člena pracovného tím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dborné vedomosti a praktické skúsenosti v oblasti spracovania zbiero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hopnosť samostatne pracovať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ertifikát zvládnutia práce s modulom Autority a Kooperačným modul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žiadavky na vedúceho pracovného tím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o čo na člen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navyše predpoklady lídra (odborná autorita, organizačné schopnosti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290-50D1-484F-899A-D45901BE1F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D603F-837E-4F6C-A468-D7BDBB85D7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KONIEC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ďalšie informácie, usmernenia, pracovná komunikácia 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rostredníctvom kooperačného modulu http://tezaurus.cemuz.s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991600" y="472428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Ďakujem za pozornos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8DF-D0D0-46BA-8F39-A2BD6C0206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BA4FC-FDB5-4850-84E7-0FF5674FA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dfc08d"/>
                </a:solidFill>
                <a:latin typeface="Verdana"/>
              </a:rPr>
              <a:t>Interoperabilita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schopnosť informačného systému používať informácie a funkcie iného systému používaním spoločných štandardov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Európska únia vypracovala v roku 2004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IDA (Interchange Data between Administration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 dva strategické materiál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Európsky rámec interoperability (European Interoperability Framework, EIF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rchitektonické usmernenia (Architecture Guidelines, AG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468360" y="5589720"/>
            <a:ext cx="718920" cy="3585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287" h="21600">
                <a:moveTo>
                  <a:pt x="0" y="0"/>
                </a:moveTo>
                <a:lnTo>
                  <a:pt x="43287" y="0"/>
                </a:lnTo>
                <a:lnTo>
                  <a:pt x="43287" y="21600"/>
                </a:lnTo>
                <a:lnTo>
                  <a:pt x="0" y="21600"/>
                </a:lnTo>
                <a:close/>
              </a:path>
              <a:path fill="lightenLess" w="43287" h="21600">
                <a:moveTo>
                  <a:pt x="0" y="0"/>
                </a:moveTo>
                <a:lnTo>
                  <a:pt x="43287" y="0"/>
                </a:lnTo>
                <a:lnTo>
                  <a:pt x="41887" y="1400"/>
                </a:lnTo>
                <a:lnTo>
                  <a:pt x="1400" y="1400"/>
                </a:lnTo>
                <a:close/>
              </a:path>
              <a:path fill="darken" w="43287" h="21600">
                <a:moveTo>
                  <a:pt x="43287" y="0"/>
                </a:moveTo>
                <a:lnTo>
                  <a:pt x="43287" y="21600"/>
                </a:lnTo>
                <a:lnTo>
                  <a:pt x="41887" y="20200"/>
                </a:lnTo>
                <a:lnTo>
                  <a:pt x="41887" y="1400"/>
                </a:lnTo>
                <a:close/>
              </a:path>
              <a:path fill="darkenLess" w="43287" h="21600">
                <a:moveTo>
                  <a:pt x="43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7" y="20200"/>
                </a:lnTo>
                <a:close/>
              </a:path>
              <a:path fill="lighten" w="43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7" h="21600">
                <a:moveTo>
                  <a:pt x="14637" y="10800"/>
                </a:moveTo>
                <a:lnTo>
                  <a:pt x="28650" y="3794"/>
                </a:lnTo>
                <a:lnTo>
                  <a:pt x="28650" y="17806"/>
                </a:lnTo>
                <a:close/>
              </a:path>
            </a:pathLst>
          </a:custGeom>
          <a:solidFill>
            <a:srgbClr val="8c7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319-F51B-40BA-A337-FA95C0C043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0C236-AEAC-4306-B666-75B4ACBD4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Verdana"/>
              </a:rPr>
              <a:t>Čo je predmetom digitalizácie</a:t>
            </a:r>
            <a:endParaRPr b="1" lang="en-US" sz="36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700280"/>
            <a:ext cx="7100640" cy="15364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23e26"/>
                </a:solidFill>
                <a:latin typeface="Arial"/>
              </a:rPr>
              <a:t>ZNAL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identifikačné, determinačné a deskripčné úd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interpretác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43331f"/>
                </a:solidFill>
                <a:latin typeface="Arial"/>
                <a:ea typeface="Arial"/>
              </a:rPr>
              <a:t>súvislosti a vzťa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114800"/>
            <a:ext cx="7105680" cy="12589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REÁLNE OBJEK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originálne doklady vývoja spoločnost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... a prír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852640"/>
            <a:ext cx="7056360" cy="990720"/>
          </a:xfrm>
          <a:prstGeom prst="rect">
            <a:avLst/>
          </a:prstGeom>
          <a:solidFill>
            <a:srgbClr val="99330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metadáta a vzťahové štruktú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syntax popisu (C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sémantický referenčný model vzťahov (CRM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5013360"/>
            <a:ext cx="7291440" cy="1152360"/>
          </a:xfrm>
          <a:prstGeom prst="rect">
            <a:avLst/>
          </a:prstGeom>
          <a:solidFill>
            <a:srgbClr val="99330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digitálne objek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grafické zobraze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AV a zvukové zázna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multimadiálne prepi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016-A9B6-4A0D-BB90-5D70D6F882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DCEE6-FAE4-4EF3-9A57-56530CA32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c08d"/>
                </a:solidFill>
                <a:latin typeface="Verdana"/>
              </a:rPr>
              <a:t>Metódy digitalizácie</a:t>
            </a:r>
            <a:endParaRPr b="1" lang="en-US" sz="36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676520"/>
            <a:ext cx="7129440" cy="15364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ČO DIGIT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charakter predme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dokumentačná hodn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atraktívnosť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4149720"/>
            <a:ext cx="6993000" cy="1401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PREČO DIGITA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ochrana a uchova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výsk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sprístupnen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093680"/>
            <a:ext cx="2859120" cy="914400"/>
          </a:xfrm>
          <a:prstGeom prst="borderCallout1">
            <a:avLst>
              <a:gd name="adj1" fmla="val -9247"/>
              <a:gd name="adj2" fmla="val 23400"/>
              <a:gd name="adj3" fmla="val 20736"/>
              <a:gd name="adj4" fmla="val 23400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2D objek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3D objek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uzavreté prie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otvorené prie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1353960"/>
            <a:ext cx="2563920" cy="914400"/>
          </a:xfrm>
          <a:prstGeom prst="borderCallout1">
            <a:avLst>
              <a:gd name="adj1" fmla="val -21667"/>
              <a:gd name="adj2" fmla="val 23400"/>
              <a:gd name="adj3" fmla="val 20637"/>
              <a:gd name="adj4" fmla="val 23400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globálny význ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gionálny význ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študijný a komparačný materiá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751040"/>
            <a:ext cx="2563920" cy="771480"/>
          </a:xfrm>
          <a:prstGeom prst="borderCallout1">
            <a:avLst>
              <a:gd name="adj1" fmla="val -14244"/>
              <a:gd name="adj2" fmla="val 23733"/>
              <a:gd name="adj3" fmla="val 20637"/>
              <a:gd name="adj4" fmla="val 23733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prez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prez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okum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873600"/>
            <a:ext cx="4044960" cy="690480"/>
          </a:xfrm>
          <a:prstGeom prst="borderCallout1">
            <a:avLst>
              <a:gd name="adj1" fmla="val -4179"/>
              <a:gd name="adj2" fmla="val 23983"/>
              <a:gd name="adj3" fmla="val 20990"/>
              <a:gd name="adj4" fmla="val 23983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zachytenie zmien vplyvom času a prostre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okumentácia reštaurátorských zásaho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igitálny „otlčok prstu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24480" y="4373640"/>
            <a:ext cx="4008240" cy="442800"/>
          </a:xfrm>
          <a:prstGeom prst="borderCallout1">
            <a:avLst>
              <a:gd name="adj1" fmla="val -11164"/>
              <a:gd name="adj2" fmla="val 25316"/>
              <a:gd name="adj3" fmla="val 20984"/>
              <a:gd name="adj4" fmla="val 25316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umožnenie intelektuálneho prístupu k hmotným prameňom – digitálnym zástucom artefaktov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5157720"/>
            <a:ext cx="2563920" cy="1005120"/>
          </a:xfrm>
          <a:prstGeom prst="borderCallout1">
            <a:avLst>
              <a:gd name="adj1" fmla="val -16277"/>
              <a:gd name="adj2" fmla="val -1638"/>
              <a:gd name="adj3" fmla="val 20637"/>
              <a:gd name="adj4" fmla="val -1638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administratívne potreb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odborné úče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idaktické využit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laxačné uplatne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komerčné využit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852640"/>
            <a:ext cx="6408720" cy="1584360"/>
          </a:xfrm>
          <a:prstGeom prst="rect">
            <a:avLst/>
          </a:prstGeom>
          <a:solidFill>
            <a:srgbClr val="9933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ódy digitalizác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menz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val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ĺb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2741760"/>
            <a:ext cx="1478160" cy="733320"/>
          </a:xfrm>
          <a:prstGeom prst="borderCallout1">
            <a:avLst>
              <a:gd name="adj1" fmla="val -43757"/>
              <a:gd name="adj2" fmla="val 23844"/>
              <a:gd name="adj3" fmla="val 19930"/>
              <a:gd name="adj4" fmla="val 23844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férick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3255840"/>
            <a:ext cx="1511280" cy="690840"/>
          </a:xfrm>
          <a:prstGeom prst="borderCallout1">
            <a:avLst>
              <a:gd name="adj1" fmla="val -51255"/>
              <a:gd name="adj2" fmla="val 23983"/>
              <a:gd name="adj3" fmla="val 19966"/>
              <a:gd name="adj4" fmla="val 23983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ch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ýza objek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ie objek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971800"/>
            <a:ext cx="1439640" cy="736560"/>
          </a:xfrm>
          <a:prstGeom prst="borderCallout1">
            <a:avLst>
              <a:gd name="adj1" fmla="val -23648"/>
              <a:gd name="adj2" fmla="val 23834"/>
              <a:gd name="adj3" fmla="val 19885"/>
              <a:gd name="adj4" fmla="val 23834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k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zent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AFF-2819-4F95-A672-E6F2AC9284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1A94D-1C42-4916-BD51-2EB37FFA1A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Procesy digitalizácie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76520"/>
            <a:ext cx="5205600" cy="1536480"/>
          </a:xfrm>
          <a:prstGeom prst="rect">
            <a:avLst/>
          </a:prstGeom>
          <a:solidFill>
            <a:srgbClr val="000066">
              <a:alpha val="40000"/>
            </a:srgbClr>
          </a:solidFill>
          <a:ln w="936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O DIGIT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charakter predme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dokumentačná hodn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atraktívnosť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114800"/>
            <a:ext cx="5105520" cy="1401840"/>
          </a:xfrm>
          <a:prstGeom prst="rect">
            <a:avLst/>
          </a:prstGeom>
          <a:solidFill>
            <a:srgbClr val="000066">
              <a:alpha val="40000"/>
            </a:srgbClr>
          </a:solidFill>
          <a:ln w="936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ČO DIGITA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uchova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výsk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sprístupnen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35280" y="2852640"/>
            <a:ext cx="4176720" cy="1584360"/>
          </a:xfrm>
          <a:prstGeom prst="rect">
            <a:avLst/>
          </a:prstGeom>
          <a:solidFill>
            <a:srgbClr val="9933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formy digitalizác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z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val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ĺb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4000" y="1413000"/>
            <a:ext cx="5688000" cy="4392360"/>
          </a:xfrm>
          <a:prstGeom prst="rect">
            <a:avLst/>
          </a:prstGeom>
          <a:solidFill>
            <a:srgbClr val="ff9900">
              <a:alpha val="36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060640"/>
            <a:ext cx="1871640" cy="368280"/>
          </a:xfrm>
          <a:prstGeom prst="rect">
            <a:avLst/>
          </a:prstGeom>
          <a:solidFill>
            <a:srgbClr val="52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ó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044880"/>
            <a:ext cx="1512720" cy="368280"/>
          </a:xfrm>
          <a:prstGeom prst="rect">
            <a:avLst/>
          </a:prstGeom>
          <a:solidFill>
            <a:srgbClr val="52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á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3044880"/>
            <a:ext cx="1513080" cy="368280"/>
          </a:xfrm>
          <a:prstGeom prst="rect">
            <a:avLst/>
          </a:prstGeom>
          <a:solidFill>
            <a:srgbClr val="52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ó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4029120"/>
            <a:ext cx="151308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financ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029120"/>
            <a:ext cx="151272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legislatí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53600">
            <a:off x="6443280" y="3429000"/>
            <a:ext cx="360360" cy="576360"/>
          </a:xfrm>
          <a:prstGeom prst="upDownArrow">
            <a:avLst>
              <a:gd name="adj1" fmla="val 50000"/>
              <a:gd name="adj2" fmla="val 3184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9646400">
            <a:off x="4210560" y="3429000"/>
            <a:ext cx="360360" cy="576360"/>
          </a:xfrm>
          <a:prstGeom prst="upDownArrow">
            <a:avLst>
              <a:gd name="adj1" fmla="val 50000"/>
              <a:gd name="adj2" fmla="val 3184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013360"/>
            <a:ext cx="187164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výsled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753200">
            <a:off x="4788000" y="450828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1846800">
            <a:off x="5867280" y="450828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753200">
            <a:off x="6372000" y="249192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1846800">
            <a:off x="4284720" y="249048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97080" y="1413000"/>
            <a:ext cx="4822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fc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23e26"/>
                </a:solidFill>
                <a:latin typeface="Arial"/>
              </a:rPr>
              <a:t>Proces digitalizácie 3D objekt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A2C-6A00-4663-8F08-F777B6C990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FC41C-146F-4497-AAF5-2AB8B6BEDC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Štandardizovaná jednotka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676520"/>
            <a:ext cx="7129440" cy="15364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ČO DIGIT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charakter predme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dokumentačná hodn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atraktívnosť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4149720"/>
            <a:ext cx="6993000" cy="1401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Arial"/>
              </a:rPr>
              <a:t>PREČO DIGITALIZUJ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ochrana a uchova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výsk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sprístupnen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331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1353960"/>
            <a:ext cx="2563920" cy="914400"/>
          </a:xfrm>
          <a:prstGeom prst="borderCallout1">
            <a:avLst>
              <a:gd name="adj1" fmla="val -21667"/>
              <a:gd name="adj2" fmla="val 23400"/>
              <a:gd name="adj3" fmla="val 20637"/>
              <a:gd name="adj4" fmla="val 23400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globálny význ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gionálny význ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študijný a komparačný materiá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751040"/>
            <a:ext cx="2563920" cy="771480"/>
          </a:xfrm>
          <a:prstGeom prst="borderCallout1">
            <a:avLst>
              <a:gd name="adj1" fmla="val -14244"/>
              <a:gd name="adj2" fmla="val 23733"/>
              <a:gd name="adj3" fmla="val 20637"/>
              <a:gd name="adj4" fmla="val 23733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prez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prez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okumentačná úrove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873600"/>
            <a:ext cx="4044960" cy="690480"/>
          </a:xfrm>
          <a:prstGeom prst="borderCallout1">
            <a:avLst>
              <a:gd name="adj1" fmla="val -4179"/>
              <a:gd name="adj2" fmla="val 23983"/>
              <a:gd name="adj3" fmla="val 20990"/>
              <a:gd name="adj4" fmla="val 23983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zachytenie zmien vplyvom času a prostre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okumentácia reštaurátorských zásaho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igitálny „otlčok prstu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24480" y="4373640"/>
            <a:ext cx="4008240" cy="442800"/>
          </a:xfrm>
          <a:prstGeom prst="borderCallout1">
            <a:avLst>
              <a:gd name="adj1" fmla="val -11164"/>
              <a:gd name="adj2" fmla="val 25316"/>
              <a:gd name="adj3" fmla="val 20984"/>
              <a:gd name="adj4" fmla="val 25316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umožnenie intelektuálneho prístupu k hmotným prameňom – digitálnym zástucom artefaktov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5157720"/>
            <a:ext cx="2563920" cy="1005120"/>
          </a:xfrm>
          <a:prstGeom prst="borderCallout1">
            <a:avLst>
              <a:gd name="adj1" fmla="val -16277"/>
              <a:gd name="adj2" fmla="val -1638"/>
              <a:gd name="adj3" fmla="val 20637"/>
              <a:gd name="adj4" fmla="val -1638"/>
            </a:avLst>
          </a:prstGeom>
          <a:solidFill>
            <a:srgbClr val="dfc08d"/>
          </a:solidFill>
          <a:ln w="9360">
            <a:solidFill>
              <a:srgbClr val="433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administratívne potreb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odborné úče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didaktické využit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relaxačné uplatne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d2015"/>
                </a:solidFill>
                <a:latin typeface="Times New Roman"/>
                <a:ea typeface="Times New Roman"/>
              </a:rPr>
              <a:t>komerčné využit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852640"/>
            <a:ext cx="6408720" cy="1584360"/>
          </a:xfrm>
          <a:prstGeom prst="rect">
            <a:avLst/>
          </a:prstGeom>
          <a:solidFill>
            <a:srgbClr val="9933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ódy digitalizác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menz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val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ĺb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741760"/>
            <a:ext cx="1478160" cy="733320"/>
          </a:xfrm>
          <a:prstGeom prst="borderCallout1">
            <a:avLst>
              <a:gd name="adj1" fmla="val -43757"/>
              <a:gd name="adj2" fmla="val 23844"/>
              <a:gd name="adj3" fmla="val 19930"/>
              <a:gd name="adj4" fmla="val 23844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férick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3255840"/>
            <a:ext cx="1511280" cy="690840"/>
          </a:xfrm>
          <a:prstGeom prst="borderCallout1">
            <a:avLst>
              <a:gd name="adj1" fmla="val -51255"/>
              <a:gd name="adj2" fmla="val 23983"/>
              <a:gd name="adj3" fmla="val 19966"/>
              <a:gd name="adj4" fmla="val 23983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ch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ýza objek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ie objek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2971800"/>
            <a:ext cx="1439640" cy="736560"/>
          </a:xfrm>
          <a:prstGeom prst="borderCallout1">
            <a:avLst>
              <a:gd name="adj1" fmla="val -23648"/>
              <a:gd name="adj2" fmla="val 23834"/>
              <a:gd name="adj3" fmla="val 19885"/>
              <a:gd name="adj4" fmla="val 23834"/>
            </a:avLst>
          </a:prstGeom>
          <a:solidFill>
            <a:srgbClr val="a66e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k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zentačn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413000"/>
            <a:ext cx="7777080" cy="475272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013360"/>
            <a:ext cx="4824360" cy="368280"/>
          </a:xfrm>
          <a:prstGeom prst="rect">
            <a:avLst/>
          </a:prstGeom>
          <a:solidFill>
            <a:srgbClr val="52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ó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4653000"/>
            <a:ext cx="237492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financ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653000"/>
            <a:ext cx="237816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legislatí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4221000"/>
            <a:ext cx="2305080" cy="3682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á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4221000"/>
            <a:ext cx="2448000" cy="368280"/>
          </a:xfrm>
          <a:prstGeom prst="rect">
            <a:avLst/>
          </a:prstGeom>
          <a:solidFill>
            <a:srgbClr val="52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ó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3789360"/>
            <a:ext cx="482436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23e26"/>
                </a:solidFill>
                <a:latin typeface="Times New Roman"/>
                <a:ea typeface="Times New Roman"/>
              </a:rPr>
              <a:t>výsled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B54-4FDA-45A6-86EA-08D08CE4E4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561D8-DE21-4B32-8711-A707B0E92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Metodika tezaurácie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996-5494-43B3-881E-717B1121CD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6298B-0B91-4ECD-BA03-B05EF462D0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dfc08d"/>
                </a:solidFill>
                <a:latin typeface="Verdana"/>
              </a:rPr>
              <a:t>Sémantika tezaura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7BA-C25F-41D6-81C0-3AF8F019B7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E64ED-8847-4AF4-911F-B6F7F78C7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31f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Verdana"/>
              </a:rPr>
              <a:t>Národné štandardy</a:t>
            </a:r>
            <a:endParaRPr b="1" lang="en-US" sz="4000" spc="-1" strike="noStrike">
              <a:solidFill>
                <a:srgbClr val="dfc08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ŠTANDARDY – základný predpoklad </a:t>
            </a:r>
            <a:r>
              <a:rPr b="0" lang="en-US" sz="2400" spc="-1" strike="noStrike" u="sng">
                <a:solidFill>
                  <a:srgbClr val="ccb400"/>
                </a:solidFill>
                <a:uFillTx/>
                <a:latin typeface="Verdana"/>
                <a:hlinkClick r:id="rId1" action="ppaction://hlinksldjump"/>
              </a:rPr>
              <a:t>interoper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UTORIT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ená a smerodajná, štandardizovaná podob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zvu, personálneho alebo korporatívneho subjektu (autor, výrobca, pôvodný majiteľ, užívateľ, kustód 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zvu dokumentu (súboru dokumentov, zbierok a iných celkov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razu vecného selekčného jazy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Úvod do problematiky spracovania múzejného tezau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AA4-2F15-4E91-909B-484D0CAD17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3DA40-C18A-406D-90BA-AD2747776C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8:28:53Z</dcterms:created>
  <dc:creator>Ján Jurkovič</dc:creator>
  <dc:description/>
  <dc:language>en-US</dc:language>
  <cp:lastModifiedBy>Ján Jurkovič</cp:lastModifiedBy>
  <dcterms:modified xsi:type="dcterms:W3CDTF">2007-09-20T06:35:46Z</dcterms:modified>
  <cp:revision>30</cp:revision>
  <dc:subject/>
  <dc:title>Zahájenie prác na múzejnom tezaure</dc:title>
</cp:coreProperties>
</file>